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ABA-AE08-42D7-8BFE-9A96EE97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CF2-7DEE-4175-A6CF-139BC16F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9EB-E6AF-4B6C-8B08-F6B723B7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786-8CAA-43C2-94EC-C3FD5E3F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21C-B718-4196-B167-22947854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0A4-A6D7-4B57-B938-0E269E86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218-04B7-4C5F-8B0A-743C581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1A1-6B27-44F0-AC27-41195C0A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7E9-21F3-4D50-9793-6755122B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AAF-9F88-4895-92CF-97FF654C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77A-8B58-46F2-B9B3-861F055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8BB-6D0F-46DF-8C3E-E570E27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1944-6C40-401C-ABD2-FC60B8757A55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98989"/>
                </a:solidFill>
                <a:latin typeface="Calibri"/>
              </a:rPr>
              <a:t>Εργαστηριακά Όργαν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6760" y="1571760"/>
            <a:ext cx="300852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SP2001_L.jpg"/>
          <p:cNvPicPr/>
          <p:nvPr/>
        </p:nvPicPr>
        <p:blipFill>
          <a:blip r:embed="rId5"/>
          <a:stretch/>
        </p:blipFill>
        <p:spPr>
          <a:xfrm>
            <a:off x="3959280" y="1643040"/>
            <a:ext cx="4240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300816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Αναλυτικός ζυγό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XR320_205B_200x250"/>
          <p:cNvPicPr/>
          <p:nvPr/>
        </p:nvPicPr>
        <p:blipFill>
          <a:blip r:embed="rId5"/>
          <a:stretch/>
        </p:blipFill>
        <p:spPr>
          <a:xfrm>
            <a:off x="4348080" y="1214280"/>
            <a:ext cx="28004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300816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-μετρα και ηλεκτρόδι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de.labexchange.com/products/foto/thumbs_preview/16786.jpg"/>
          <p:cNvPicPr/>
          <p:nvPr/>
        </p:nvPicPr>
        <p:blipFill>
          <a:blip r:embed="rId5"/>
          <a:stretch/>
        </p:blipFill>
        <p:spPr>
          <a:xfrm>
            <a:off x="3929040" y="1714680"/>
            <a:ext cx="319104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WTW 3-in-1 Combination pH Electrodes, Epoxy Body, WTW 50476466"/>
          <p:cNvPicPr/>
          <p:nvPr/>
        </p:nvPicPr>
        <p:blipFill>
          <a:blip r:embed="rId6"/>
          <a:stretch/>
        </p:blipFill>
        <p:spPr>
          <a:xfrm>
            <a:off x="7072200" y="1357200"/>
            <a:ext cx="37008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img.directindustry.com/images_di/photo-g/ph-electrode-56687.jpg"/>
          <p:cNvPicPr/>
          <p:nvPr/>
        </p:nvPicPr>
        <p:blipFill>
          <a:blip r:embed="rId7"/>
          <a:stretch/>
        </p:blipFill>
        <p:spPr>
          <a:xfrm>
            <a:off x="5072040" y="4071960"/>
            <a:ext cx="1244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Μαγνητικός αναδευτήρας / Θερμαντική πλάκ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velp.com/files_dyn/img_fotoProd/VELP_Heating_magnetic_stirrer_ARE.jpg_393_d.jpg"/>
          <p:cNvPicPr/>
          <p:nvPr/>
        </p:nvPicPr>
        <p:blipFill>
          <a:blip r:embed="rId5"/>
          <a:stretch/>
        </p:blipFill>
        <p:spPr>
          <a:xfrm>
            <a:off x="3929040" y="157176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76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ασματοφωτόμετρο ορατού- υπεριώδους απλής δέσμη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http://img.alibaba.com/img/product/22/00/49/23/220049232.jpg?1263628800000"/>
          <p:cNvPicPr/>
          <p:nvPr/>
        </p:nvPicPr>
        <p:blipFill>
          <a:blip r:embed="rId5"/>
          <a:stretch/>
        </p:blipFill>
        <p:spPr>
          <a:xfrm>
            <a:off x="4000680" y="1857240"/>
            <a:ext cx="3809880" cy="298152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λογοφωτόμετρ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Jenway PFP7 Flame Photometer"/>
          <p:cNvPicPr/>
          <p:nvPr/>
        </p:nvPicPr>
        <p:blipFill>
          <a:blip r:embed="rId5"/>
          <a:stretch/>
        </p:blipFill>
        <p:spPr>
          <a:xfrm>
            <a:off x="4491000" y="1928880"/>
            <a:ext cx="2881440" cy="252900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υγόκεντρο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en.labexchange.com/products/foto/thumbs_preview/15583.jpg"/>
          <p:cNvPicPr/>
          <p:nvPr/>
        </p:nvPicPr>
        <p:blipFill>
          <a:blip r:embed="rId5"/>
          <a:stretch/>
        </p:blipFill>
        <p:spPr>
          <a:xfrm>
            <a:off x="3286080" y="2071800"/>
            <a:ext cx="322092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en.labexchange.com/products/foto/thumbs_preview/15583-1.jpg"/>
          <p:cNvPicPr/>
          <p:nvPr/>
        </p:nvPicPr>
        <p:blipFill>
          <a:blip r:embed="rId6"/>
          <a:stretch/>
        </p:blipFill>
        <p:spPr>
          <a:xfrm>
            <a:off x="6215040" y="2428920"/>
            <a:ext cx="19764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32:13Z</dcterms:created>
  <dc:creator>Christine Fountzoula</dc:creator>
  <dc:description/>
  <dc:language>en-US</dc:language>
  <cp:lastModifiedBy>Christine Fountzoula</cp:lastModifiedBy>
  <dcterms:modified xsi:type="dcterms:W3CDTF">2010-03-23T08:16:14Z</dcterms:modified>
  <cp:revision>51</cp:revision>
  <dc:subject/>
  <dc:title>Slide 1</dc:title>
</cp:coreProperties>
</file>