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2764-25AC-4EB3-AA7C-143D5F3E3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DC97-0CE5-4115-A6B0-C42CF29E4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BB07-3849-4064-BB66-4A91F208A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DE18-E16A-4AE9-9A12-0BCCE65D4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EFE0-B42A-43C8-9F18-8DA87FFED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C0F8-0791-4E42-BE27-5526574E7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1DDF-8A7C-42BC-BB3D-1E1781A34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E725-AD86-489C-85E0-A53E7FDC5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9A31-C217-46B6-AE5E-0CFC06B8B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C798-9779-47EC-835B-B3FDE23B9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E72F-1284-4E15-9123-5B0BE0E03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913E-1CA9-4A27-B7F7-E00C1000C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15C1C-85A3-4BB0-B9CD-D3CE24AE461E}" type="slidenum">
              <a:rPr b="0" lang="el-G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7.jpeg"/><Relationship Id="rId6" Type="http://schemas.openxmlformats.org/officeDocument/2006/relationships/image" Target="../media/image8.pn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85880" y="1500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000000"/>
                </a:solidFill>
                <a:latin typeface="Calibri"/>
              </a:rPr>
              <a:t>Εργαστήριο Χημεία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57200" y="32860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898989"/>
                </a:solidFill>
                <a:latin typeface="Calibri"/>
              </a:rPr>
              <a:t>Εργαστηριακά Όργανα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1" descr="C:\Users\Christine Fountzoula\AppData\Local\Microsoft\Windows\Temporary Internet Files\Content.IE5\O6618MK4\MPj04394600000[1].jpg"/>
          <p:cNvPicPr/>
          <p:nvPr/>
        </p:nvPicPr>
        <p:blipFill>
          <a:blip r:embed="rId1"/>
          <a:stretch/>
        </p:blipFill>
        <p:spPr>
          <a:xfrm>
            <a:off x="6715080" y="5151600"/>
            <a:ext cx="2271600" cy="17064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4" descr="C:\Users\Christine Fountzoula\AppData\Local\Microsoft\Windows\Temporary Internet Files\Content.IE5\O6618MK4\MPj04019590000[1].jpg"/>
          <p:cNvPicPr/>
          <p:nvPr/>
        </p:nvPicPr>
        <p:blipFill>
          <a:blip r:embed="rId2"/>
          <a:stretch/>
        </p:blipFill>
        <p:spPr>
          <a:xfrm>
            <a:off x="0" y="5619600"/>
            <a:ext cx="1857240" cy="12384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5" descr="C:\Users\Christine Fountzoula\AppData\Local\Microsoft\Windows\Temporary Internet Files\Content.IE5\1XIBMHDN\MPj04074910000[1].jpg"/>
          <p:cNvPicPr/>
          <p:nvPr/>
        </p:nvPicPr>
        <p:blipFill>
          <a:blip r:embed="rId3"/>
          <a:stretch/>
        </p:blipFill>
        <p:spPr>
          <a:xfrm>
            <a:off x="0" y="0"/>
            <a:ext cx="1373040" cy="13572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6" descr="C:\Users\Christine Fountzoula\AppData\Local\Microsoft\Windows\Temporary Internet Files\Content.IE5\1XIBMHDN\MPj04065760000[1].jpg"/>
          <p:cNvPicPr/>
          <p:nvPr/>
        </p:nvPicPr>
        <p:blipFill>
          <a:blip r:embed="rId4"/>
          <a:stretch/>
        </p:blipFill>
        <p:spPr>
          <a:xfrm>
            <a:off x="7429680" y="0"/>
            <a:ext cx="17143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56760" y="1571760"/>
            <a:ext cx="3008520" cy="590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Calibri"/>
              </a:rPr>
              <a:t>Εργαστήριο Χημείας</a:t>
            </a:r>
            <a:br>
              <a:rPr sz="2000"/>
            </a:br>
            <a:r>
              <a:rPr b="1" lang="el-GR" sz="1600" spc="-1" strike="noStrike">
                <a:solidFill>
                  <a:srgbClr val="000000"/>
                </a:solidFill>
                <a:latin typeface="Calibri"/>
              </a:rPr>
              <a:t>Όργανα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85520" y="2571840"/>
            <a:ext cx="1785960" cy="20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1" descr="C:\Users\Christine Fountzoula\AppData\Local\Microsoft\Windows\Temporary Internet Files\Content.IE5\O6618MK4\MPj04394600000[1].jpg"/>
          <p:cNvPicPr/>
          <p:nvPr/>
        </p:nvPicPr>
        <p:blipFill>
          <a:blip r:embed="rId1"/>
          <a:stretch/>
        </p:blipFill>
        <p:spPr>
          <a:xfrm>
            <a:off x="6715080" y="5151600"/>
            <a:ext cx="2271600" cy="17064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4" descr="C:\Users\Christine Fountzoula\AppData\Local\Microsoft\Windows\Temporary Internet Files\Content.IE5\O6618MK4\MPj04019590000[1].jpg"/>
          <p:cNvPicPr/>
          <p:nvPr/>
        </p:nvPicPr>
        <p:blipFill>
          <a:blip r:embed="rId2"/>
          <a:stretch/>
        </p:blipFill>
        <p:spPr>
          <a:xfrm>
            <a:off x="0" y="5619600"/>
            <a:ext cx="1857240" cy="12384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5" descr="C:\Users\Christine Fountzoula\AppData\Local\Microsoft\Windows\Temporary Internet Files\Content.IE5\1XIBMHDN\MPj04074910000[1].jpg"/>
          <p:cNvPicPr/>
          <p:nvPr/>
        </p:nvPicPr>
        <p:blipFill>
          <a:blip r:embed="rId3"/>
          <a:stretch/>
        </p:blipFill>
        <p:spPr>
          <a:xfrm>
            <a:off x="0" y="0"/>
            <a:ext cx="1373040" cy="13572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6" descr="C:\Users\Christine Fountzoula\AppData\Local\Microsoft\Windows\Temporary Internet Files\Content.IE5\1XIBMHDN\MPj04065760000[1].jpg"/>
          <p:cNvPicPr/>
          <p:nvPr/>
        </p:nvPicPr>
        <p:blipFill>
          <a:blip r:embed="rId4"/>
          <a:stretch/>
        </p:blipFill>
        <p:spPr>
          <a:xfrm>
            <a:off x="7429680" y="0"/>
            <a:ext cx="1714320" cy="1143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SP2001_L.jpg"/>
          <p:cNvPicPr/>
          <p:nvPr/>
        </p:nvPicPr>
        <p:blipFill>
          <a:blip r:embed="rId5"/>
          <a:stretch/>
        </p:blipFill>
        <p:spPr>
          <a:xfrm>
            <a:off x="3959280" y="1643040"/>
            <a:ext cx="42400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5840" y="1428480"/>
            <a:ext cx="3008160" cy="662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Calibri"/>
              </a:rPr>
              <a:t>Εργαστήριο Χημείας</a:t>
            </a:r>
            <a:br>
              <a:rPr sz="2000"/>
            </a:br>
            <a:r>
              <a:rPr b="1" lang="el-G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l-GR" sz="1600" spc="-1" strike="noStrike">
                <a:solidFill>
                  <a:srgbClr val="000000"/>
                </a:solidFill>
                <a:latin typeface="Calibri"/>
              </a:rPr>
              <a:t>Όργανα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85520" y="2571840"/>
            <a:ext cx="1785960" cy="20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Calibri"/>
              </a:rPr>
              <a:t>Αναλυτικός ζυγό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1" descr="C:\Users\Christine Fountzoula\AppData\Local\Microsoft\Windows\Temporary Internet Files\Content.IE5\O6618MK4\MPj04394600000[1].jpg"/>
          <p:cNvPicPr/>
          <p:nvPr/>
        </p:nvPicPr>
        <p:blipFill>
          <a:blip r:embed="rId1"/>
          <a:stretch/>
        </p:blipFill>
        <p:spPr>
          <a:xfrm>
            <a:off x="6715080" y="5151600"/>
            <a:ext cx="2271600" cy="17064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4" descr="C:\Users\Christine Fountzoula\AppData\Local\Microsoft\Windows\Temporary Internet Files\Content.IE5\O6618MK4\MPj04019590000[1].jpg"/>
          <p:cNvPicPr/>
          <p:nvPr/>
        </p:nvPicPr>
        <p:blipFill>
          <a:blip r:embed="rId2"/>
          <a:stretch/>
        </p:blipFill>
        <p:spPr>
          <a:xfrm>
            <a:off x="0" y="5619600"/>
            <a:ext cx="1857240" cy="12384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5" descr="C:\Users\Christine Fountzoula\AppData\Local\Microsoft\Windows\Temporary Internet Files\Content.IE5\1XIBMHDN\MPj04074910000[1].jpg"/>
          <p:cNvPicPr/>
          <p:nvPr/>
        </p:nvPicPr>
        <p:blipFill>
          <a:blip r:embed="rId3"/>
          <a:stretch/>
        </p:blipFill>
        <p:spPr>
          <a:xfrm>
            <a:off x="0" y="0"/>
            <a:ext cx="1373040" cy="13572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6" descr="C:\Users\Christine Fountzoula\AppData\Local\Microsoft\Windows\Temporary Internet Files\Content.IE5\1XIBMHDN\MPj04065760000[1].jpg"/>
          <p:cNvPicPr/>
          <p:nvPr/>
        </p:nvPicPr>
        <p:blipFill>
          <a:blip r:embed="rId4"/>
          <a:stretch/>
        </p:blipFill>
        <p:spPr>
          <a:xfrm>
            <a:off x="7429680" y="0"/>
            <a:ext cx="17143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XR320_205B_200x250"/>
          <p:cNvPicPr/>
          <p:nvPr/>
        </p:nvPicPr>
        <p:blipFill>
          <a:blip r:embed="rId5"/>
          <a:stretch/>
        </p:blipFill>
        <p:spPr>
          <a:xfrm>
            <a:off x="4348080" y="1214280"/>
            <a:ext cx="280044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5840" y="1428480"/>
            <a:ext cx="3008160" cy="662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Calibri"/>
              </a:rPr>
              <a:t>Εργαστήριο Χημείας</a:t>
            </a:r>
            <a:br>
              <a:rPr sz="2000"/>
            </a:br>
            <a:r>
              <a:rPr b="1" lang="el-G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l-GR" sz="1600" spc="-1" strike="noStrike">
                <a:solidFill>
                  <a:srgbClr val="000000"/>
                </a:solidFill>
                <a:latin typeface="Calibri"/>
              </a:rPr>
              <a:t>Όργανα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85520" y="2571840"/>
            <a:ext cx="1785960" cy="20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H</a:t>
            </a:r>
            <a:r>
              <a:rPr b="0" lang="el-GR" sz="1400" spc="-1" strike="noStrike">
                <a:solidFill>
                  <a:srgbClr val="000000"/>
                </a:solidFill>
                <a:latin typeface="Calibri"/>
              </a:rPr>
              <a:t>-μετρα και ηλεκτρόδια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1" descr="C:\Users\Christine Fountzoula\AppData\Local\Microsoft\Windows\Temporary Internet Files\Content.IE5\O6618MK4\MPj04394600000[1].jpg"/>
          <p:cNvPicPr/>
          <p:nvPr/>
        </p:nvPicPr>
        <p:blipFill>
          <a:blip r:embed="rId1"/>
          <a:stretch/>
        </p:blipFill>
        <p:spPr>
          <a:xfrm>
            <a:off x="6715080" y="5151600"/>
            <a:ext cx="2271600" cy="17064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4" descr="C:\Users\Christine Fountzoula\AppData\Local\Microsoft\Windows\Temporary Internet Files\Content.IE5\O6618MK4\MPj04019590000[1].jpg"/>
          <p:cNvPicPr/>
          <p:nvPr/>
        </p:nvPicPr>
        <p:blipFill>
          <a:blip r:embed="rId2"/>
          <a:stretch/>
        </p:blipFill>
        <p:spPr>
          <a:xfrm>
            <a:off x="0" y="5619600"/>
            <a:ext cx="1857240" cy="12384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5" descr="C:\Users\Christine Fountzoula\AppData\Local\Microsoft\Windows\Temporary Internet Files\Content.IE5\1XIBMHDN\MPj04074910000[1].jpg"/>
          <p:cNvPicPr/>
          <p:nvPr/>
        </p:nvPicPr>
        <p:blipFill>
          <a:blip r:embed="rId3"/>
          <a:stretch/>
        </p:blipFill>
        <p:spPr>
          <a:xfrm>
            <a:off x="0" y="0"/>
            <a:ext cx="1373040" cy="13572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6" descr="C:\Users\Christine Fountzoula\AppData\Local\Microsoft\Windows\Temporary Internet Files\Content.IE5\1XIBMHDN\MPj04065760000[1].jpg"/>
          <p:cNvPicPr/>
          <p:nvPr/>
        </p:nvPicPr>
        <p:blipFill>
          <a:blip r:embed="rId4"/>
          <a:stretch/>
        </p:blipFill>
        <p:spPr>
          <a:xfrm>
            <a:off x="7429680" y="0"/>
            <a:ext cx="1714320" cy="1143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http://de.labexchange.com/products/foto/thumbs_preview/16786.jpg"/>
          <p:cNvPicPr/>
          <p:nvPr/>
        </p:nvPicPr>
        <p:blipFill>
          <a:blip r:embed="rId5"/>
          <a:stretch/>
        </p:blipFill>
        <p:spPr>
          <a:xfrm>
            <a:off x="3929040" y="1714680"/>
            <a:ext cx="3191040" cy="2124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WTW 3-in-1 Combination pH Electrodes, Epoxy Body, WTW 50476466"/>
          <p:cNvPicPr/>
          <p:nvPr/>
        </p:nvPicPr>
        <p:blipFill>
          <a:blip r:embed="rId6"/>
          <a:stretch/>
        </p:blipFill>
        <p:spPr>
          <a:xfrm>
            <a:off x="7072200" y="1357200"/>
            <a:ext cx="370080" cy="25718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8" descr="http://img.directindustry.com/images_di/photo-g/ph-electrode-56687.jpg"/>
          <p:cNvPicPr/>
          <p:nvPr/>
        </p:nvPicPr>
        <p:blipFill>
          <a:blip r:embed="rId7"/>
          <a:stretch/>
        </p:blipFill>
        <p:spPr>
          <a:xfrm>
            <a:off x="5072040" y="4071960"/>
            <a:ext cx="124452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785520" y="2571480"/>
            <a:ext cx="242892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Calibri"/>
              </a:rPr>
              <a:t>Μαγνητικός αναδευτήρας / Θερμαντική πλάκα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1" descr="C:\Users\Christine Fountzoula\AppData\Local\Microsoft\Windows\Temporary Internet Files\Content.IE5\O6618MK4\MPj04394600000[1].jpg"/>
          <p:cNvPicPr/>
          <p:nvPr/>
        </p:nvPicPr>
        <p:blipFill>
          <a:blip r:embed="rId1"/>
          <a:stretch/>
        </p:blipFill>
        <p:spPr>
          <a:xfrm>
            <a:off x="6715080" y="5151600"/>
            <a:ext cx="2271600" cy="17064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4" descr="C:\Users\Christine Fountzoula\AppData\Local\Microsoft\Windows\Temporary Internet Files\Content.IE5\O6618MK4\MPj04019590000[1].jpg"/>
          <p:cNvPicPr/>
          <p:nvPr/>
        </p:nvPicPr>
        <p:blipFill>
          <a:blip r:embed="rId2"/>
          <a:stretch/>
        </p:blipFill>
        <p:spPr>
          <a:xfrm>
            <a:off x="0" y="5619600"/>
            <a:ext cx="1857240" cy="12384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5" descr="C:\Users\Christine Fountzoula\AppData\Local\Microsoft\Windows\Temporary Internet Files\Content.IE5\1XIBMHDN\MPj04074910000[1].jpg"/>
          <p:cNvPicPr/>
          <p:nvPr/>
        </p:nvPicPr>
        <p:blipFill>
          <a:blip r:embed="rId3"/>
          <a:stretch/>
        </p:blipFill>
        <p:spPr>
          <a:xfrm>
            <a:off x="0" y="0"/>
            <a:ext cx="1373040" cy="13572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6" descr="C:\Users\Christine Fountzoula\AppData\Local\Microsoft\Windows\Temporary Internet Files\Content.IE5\1XIBMHDN\MPj04065760000[1].jpg"/>
          <p:cNvPicPr/>
          <p:nvPr/>
        </p:nvPicPr>
        <p:blipFill>
          <a:blip r:embed="rId4"/>
          <a:stretch/>
        </p:blipFill>
        <p:spPr>
          <a:xfrm>
            <a:off x="7429680" y="0"/>
            <a:ext cx="1714320" cy="1143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http://www.velp.com/files_dyn/img_fotoProd/VELP_Heating_magnetic_stirrer_ARE.jpg_393_d.jpg"/>
          <p:cNvPicPr/>
          <p:nvPr/>
        </p:nvPicPr>
        <p:blipFill>
          <a:blip r:embed="rId5"/>
          <a:stretch/>
        </p:blipFill>
        <p:spPr>
          <a:xfrm>
            <a:off x="3929040" y="1571760"/>
            <a:ext cx="3500640" cy="3500280"/>
          </a:xfrm>
          <a:prstGeom prst="rect">
            <a:avLst/>
          </a:prstGeom>
          <a:ln w="0">
            <a:noFill/>
          </a:ln>
        </p:spPr>
      </p:pic>
      <p:sp>
        <p:nvSpPr>
          <p:cNvPr id="76" name="Title 1"/>
          <p:cNvSpPr/>
          <p:nvPr/>
        </p:nvSpPr>
        <p:spPr>
          <a:xfrm>
            <a:off x="285840" y="1428840"/>
            <a:ext cx="3008160" cy="6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Calibri"/>
              </a:rPr>
              <a:t>Εργαστήριο Χημείας</a:t>
            </a:r>
            <a:br>
              <a:rPr sz="2000"/>
            </a:br>
            <a:r>
              <a:rPr b="1" lang="el-G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l-GR" sz="1600" spc="-1" strike="noStrike">
                <a:solidFill>
                  <a:srgbClr val="000000"/>
                </a:solidFill>
                <a:latin typeface="Calibri"/>
              </a:rPr>
              <a:t>Όργαν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785520" y="2571480"/>
            <a:ext cx="242892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Calibri"/>
              </a:rPr>
              <a:t>Φασματοφωτόμετρο ορατού- υπεριώδους απλής δέσμη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1" descr="C:\Users\Christine Fountzoula\AppData\Local\Microsoft\Windows\Temporary Internet Files\Content.IE5\O6618MK4\MPj04394600000[1].jpg"/>
          <p:cNvPicPr/>
          <p:nvPr/>
        </p:nvPicPr>
        <p:blipFill>
          <a:blip r:embed="rId1"/>
          <a:stretch/>
        </p:blipFill>
        <p:spPr>
          <a:xfrm>
            <a:off x="6715080" y="5151600"/>
            <a:ext cx="2271600" cy="1706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4" descr="C:\Users\Christine Fountzoula\AppData\Local\Microsoft\Windows\Temporary Internet Files\Content.IE5\O6618MK4\MPj04019590000[1].jpg"/>
          <p:cNvPicPr/>
          <p:nvPr/>
        </p:nvPicPr>
        <p:blipFill>
          <a:blip r:embed="rId2"/>
          <a:stretch/>
        </p:blipFill>
        <p:spPr>
          <a:xfrm>
            <a:off x="0" y="5619600"/>
            <a:ext cx="1857240" cy="12384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5" descr="C:\Users\Christine Fountzoula\AppData\Local\Microsoft\Windows\Temporary Internet Files\Content.IE5\1XIBMHDN\MPj04074910000[1].jpg"/>
          <p:cNvPicPr/>
          <p:nvPr/>
        </p:nvPicPr>
        <p:blipFill>
          <a:blip r:embed="rId3"/>
          <a:stretch/>
        </p:blipFill>
        <p:spPr>
          <a:xfrm>
            <a:off x="0" y="0"/>
            <a:ext cx="1373040" cy="13572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6" descr="C:\Users\Christine Fountzoula\AppData\Local\Microsoft\Windows\Temporary Internet Files\Content.IE5\1XIBMHDN\MPj04065760000[1].jpg"/>
          <p:cNvPicPr/>
          <p:nvPr/>
        </p:nvPicPr>
        <p:blipFill>
          <a:blip r:embed="rId4"/>
          <a:stretch/>
        </p:blipFill>
        <p:spPr>
          <a:xfrm>
            <a:off x="7429680" y="0"/>
            <a:ext cx="1714320" cy="1143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" descr="http://img.alibaba.com/img/product/22/00/49/23/220049232.jpg?1263628800000"/>
          <p:cNvPicPr/>
          <p:nvPr/>
        </p:nvPicPr>
        <p:blipFill>
          <a:blip r:embed="rId5"/>
          <a:stretch/>
        </p:blipFill>
        <p:spPr>
          <a:xfrm>
            <a:off x="4000680" y="1857240"/>
            <a:ext cx="3809880" cy="2981520"/>
          </a:xfrm>
          <a:prstGeom prst="rect">
            <a:avLst/>
          </a:prstGeom>
          <a:ln w="0">
            <a:noFill/>
          </a:ln>
        </p:spPr>
      </p:pic>
      <p:sp>
        <p:nvSpPr>
          <p:cNvPr id="83" name="Title 1"/>
          <p:cNvSpPr/>
          <p:nvPr/>
        </p:nvSpPr>
        <p:spPr>
          <a:xfrm>
            <a:off x="285840" y="1428840"/>
            <a:ext cx="3008160" cy="6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Calibri"/>
              </a:rPr>
              <a:t>Εργαστήριο Χημείας</a:t>
            </a:r>
            <a:br>
              <a:rPr sz="2000"/>
            </a:br>
            <a:r>
              <a:rPr b="1" lang="el-G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l-GR" sz="1600" spc="-1" strike="noStrike">
                <a:solidFill>
                  <a:srgbClr val="000000"/>
                </a:solidFill>
                <a:latin typeface="Calibri"/>
              </a:rPr>
              <a:t>Όργαν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785520" y="2571480"/>
            <a:ext cx="242892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Calibri"/>
              </a:rPr>
              <a:t>Φλογοφωτόμετρο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1" descr="C:\Users\Christine Fountzoula\AppData\Local\Microsoft\Windows\Temporary Internet Files\Content.IE5\O6618MK4\MPj04394600000[1].jpg"/>
          <p:cNvPicPr/>
          <p:nvPr/>
        </p:nvPicPr>
        <p:blipFill>
          <a:blip r:embed="rId1"/>
          <a:stretch/>
        </p:blipFill>
        <p:spPr>
          <a:xfrm>
            <a:off x="6715080" y="5151600"/>
            <a:ext cx="2271600" cy="17064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4" descr="C:\Users\Christine Fountzoula\AppData\Local\Microsoft\Windows\Temporary Internet Files\Content.IE5\O6618MK4\MPj04019590000[1].jpg"/>
          <p:cNvPicPr/>
          <p:nvPr/>
        </p:nvPicPr>
        <p:blipFill>
          <a:blip r:embed="rId2"/>
          <a:stretch/>
        </p:blipFill>
        <p:spPr>
          <a:xfrm>
            <a:off x="0" y="5619600"/>
            <a:ext cx="1857240" cy="12384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5" descr="C:\Users\Christine Fountzoula\AppData\Local\Microsoft\Windows\Temporary Internet Files\Content.IE5\1XIBMHDN\MPj04074910000[1].jpg"/>
          <p:cNvPicPr/>
          <p:nvPr/>
        </p:nvPicPr>
        <p:blipFill>
          <a:blip r:embed="rId3"/>
          <a:stretch/>
        </p:blipFill>
        <p:spPr>
          <a:xfrm>
            <a:off x="0" y="0"/>
            <a:ext cx="1373040" cy="13572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6" descr="C:\Users\Christine Fountzoula\AppData\Local\Microsoft\Windows\Temporary Internet Files\Content.IE5\1XIBMHDN\MPj04065760000[1].jpg"/>
          <p:cNvPicPr/>
          <p:nvPr/>
        </p:nvPicPr>
        <p:blipFill>
          <a:blip r:embed="rId4"/>
          <a:stretch/>
        </p:blipFill>
        <p:spPr>
          <a:xfrm>
            <a:off x="7429680" y="0"/>
            <a:ext cx="1714320" cy="1143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Jenway PFP7 Flame Photometer"/>
          <p:cNvPicPr/>
          <p:nvPr/>
        </p:nvPicPr>
        <p:blipFill>
          <a:blip r:embed="rId5"/>
          <a:stretch/>
        </p:blipFill>
        <p:spPr>
          <a:xfrm>
            <a:off x="4491000" y="1928880"/>
            <a:ext cx="2881440" cy="2529000"/>
          </a:xfrm>
          <a:prstGeom prst="rect">
            <a:avLst/>
          </a:prstGeom>
          <a:ln w="0">
            <a:noFill/>
          </a:ln>
        </p:spPr>
      </p:pic>
      <p:sp>
        <p:nvSpPr>
          <p:cNvPr id="90" name="Title 1"/>
          <p:cNvSpPr/>
          <p:nvPr/>
        </p:nvSpPr>
        <p:spPr>
          <a:xfrm>
            <a:off x="285840" y="1428840"/>
            <a:ext cx="3008160" cy="6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Calibri"/>
              </a:rPr>
              <a:t>Εργαστήριο Χημείας</a:t>
            </a:r>
            <a:br>
              <a:rPr sz="2000"/>
            </a:br>
            <a:r>
              <a:rPr b="1" lang="el-G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l-GR" sz="1600" spc="-1" strike="noStrike">
                <a:solidFill>
                  <a:srgbClr val="000000"/>
                </a:solidFill>
                <a:latin typeface="Calibri"/>
              </a:rPr>
              <a:t>Όργαν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785520" y="2571480"/>
            <a:ext cx="242892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Calibri"/>
              </a:rPr>
              <a:t>Φυγόκεντρο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1" descr="C:\Users\Christine Fountzoula\AppData\Local\Microsoft\Windows\Temporary Internet Files\Content.IE5\O6618MK4\MPj04394600000[1].jpg"/>
          <p:cNvPicPr/>
          <p:nvPr/>
        </p:nvPicPr>
        <p:blipFill>
          <a:blip r:embed="rId1"/>
          <a:stretch/>
        </p:blipFill>
        <p:spPr>
          <a:xfrm>
            <a:off x="6715080" y="5151600"/>
            <a:ext cx="2271600" cy="17064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4" descr="C:\Users\Christine Fountzoula\AppData\Local\Microsoft\Windows\Temporary Internet Files\Content.IE5\O6618MK4\MPj04019590000[1].jpg"/>
          <p:cNvPicPr/>
          <p:nvPr/>
        </p:nvPicPr>
        <p:blipFill>
          <a:blip r:embed="rId2"/>
          <a:stretch/>
        </p:blipFill>
        <p:spPr>
          <a:xfrm>
            <a:off x="0" y="5619600"/>
            <a:ext cx="1857240" cy="12384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5" descr="C:\Users\Christine Fountzoula\AppData\Local\Microsoft\Windows\Temporary Internet Files\Content.IE5\1XIBMHDN\MPj04074910000[1].jpg"/>
          <p:cNvPicPr/>
          <p:nvPr/>
        </p:nvPicPr>
        <p:blipFill>
          <a:blip r:embed="rId3"/>
          <a:stretch/>
        </p:blipFill>
        <p:spPr>
          <a:xfrm>
            <a:off x="0" y="0"/>
            <a:ext cx="1373040" cy="13572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6" descr="C:\Users\Christine Fountzoula\AppData\Local\Microsoft\Windows\Temporary Internet Files\Content.IE5\1XIBMHDN\MPj04065760000[1].jpg"/>
          <p:cNvPicPr/>
          <p:nvPr/>
        </p:nvPicPr>
        <p:blipFill>
          <a:blip r:embed="rId4"/>
          <a:stretch/>
        </p:blipFill>
        <p:spPr>
          <a:xfrm>
            <a:off x="7429680" y="0"/>
            <a:ext cx="1714320" cy="1143000"/>
          </a:xfrm>
          <a:prstGeom prst="rect">
            <a:avLst/>
          </a:prstGeom>
          <a:ln w="0">
            <a:noFill/>
          </a:ln>
        </p:spPr>
      </p:pic>
      <p:sp>
        <p:nvSpPr>
          <p:cNvPr id="96" name="Title 1"/>
          <p:cNvSpPr/>
          <p:nvPr/>
        </p:nvSpPr>
        <p:spPr>
          <a:xfrm>
            <a:off x="285840" y="1428840"/>
            <a:ext cx="3008160" cy="6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Calibri"/>
              </a:rPr>
              <a:t>Εργαστήριο Χημείας</a:t>
            </a:r>
            <a:br>
              <a:rPr sz="2000"/>
            </a:br>
            <a:r>
              <a:rPr b="1" lang="el-G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l-GR" sz="1600" spc="-1" strike="noStrike">
                <a:solidFill>
                  <a:srgbClr val="000000"/>
                </a:solidFill>
                <a:latin typeface="Calibri"/>
              </a:rPr>
              <a:t>Όργαν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http://en.labexchange.com/products/foto/thumbs_preview/15583.jpg"/>
          <p:cNvPicPr/>
          <p:nvPr/>
        </p:nvPicPr>
        <p:blipFill>
          <a:blip r:embed="rId5"/>
          <a:stretch/>
        </p:blipFill>
        <p:spPr>
          <a:xfrm>
            <a:off x="3286080" y="2071800"/>
            <a:ext cx="3220920" cy="21430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http://en.labexchange.com/products/foto/thumbs_preview/15583-1.jpg"/>
          <p:cNvPicPr/>
          <p:nvPr/>
        </p:nvPicPr>
        <p:blipFill>
          <a:blip r:embed="rId6"/>
          <a:stretch/>
        </p:blipFill>
        <p:spPr>
          <a:xfrm>
            <a:off x="6215040" y="2428920"/>
            <a:ext cx="1976400" cy="13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6T09:32:13Z</dcterms:created>
  <dc:creator>Christine Fountzoula</dc:creator>
  <dc:description/>
  <dc:language>en-US</dc:language>
  <cp:lastModifiedBy>Christine Fountzoula</cp:lastModifiedBy>
  <dcterms:modified xsi:type="dcterms:W3CDTF">2010-03-23T08:16:14Z</dcterms:modified>
  <cp:revision>51</cp:revision>
  <dc:subject/>
  <dc:title>Slide 1</dc:title>
</cp:coreProperties>
</file>