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D89-C1C3-414A-A5C1-6E9A404D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370-8B45-4FC7-A2ED-98060843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AC8-8A40-4A70-B4E2-0184C193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41B-AE71-44CB-A33B-E8887BB5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92C-5B12-4984-8B9B-88D23C14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411-2E5A-4E85-8704-372E53C6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ECF-D5B1-4D8E-83F7-94073330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C9A-610B-4D69-9DBD-FBE757E2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7C6-6A08-4C8C-80B9-9E8853E6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5E7-FF0A-4550-9422-6BAC282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470-5E23-4DBE-AB29-35D84BF0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E89-24D6-483F-8CF1-221B1E5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9527-EE82-422A-88C4-B4193FDBC4E7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898989"/>
                </a:solidFill>
                <a:latin typeface="Calibri"/>
              </a:rPr>
              <a:t>Εργαστηριακά Όργαν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6760" y="1571760"/>
            <a:ext cx="300852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85520" y="2571840"/>
            <a:ext cx="1785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SP2001_L.jpg"/>
          <p:cNvPicPr/>
          <p:nvPr/>
        </p:nvPicPr>
        <p:blipFill>
          <a:blip r:embed="rId5"/>
          <a:stretch/>
        </p:blipFill>
        <p:spPr>
          <a:xfrm>
            <a:off x="3959280" y="1643040"/>
            <a:ext cx="4240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300816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85520" y="2571840"/>
            <a:ext cx="1785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Αναλυτικός ζυγό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XR320_205B_200x250"/>
          <p:cNvPicPr/>
          <p:nvPr/>
        </p:nvPicPr>
        <p:blipFill>
          <a:blip r:embed="rId5"/>
          <a:stretch/>
        </p:blipFill>
        <p:spPr>
          <a:xfrm>
            <a:off x="4348080" y="1214280"/>
            <a:ext cx="28004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300816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5520" y="2571840"/>
            <a:ext cx="1785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-μετρα και ηλεκτρόδι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de.labexchange.com/products/foto/thumbs_preview/16786.jpg"/>
          <p:cNvPicPr/>
          <p:nvPr/>
        </p:nvPicPr>
        <p:blipFill>
          <a:blip r:embed="rId5"/>
          <a:stretch/>
        </p:blipFill>
        <p:spPr>
          <a:xfrm>
            <a:off x="3929040" y="1714680"/>
            <a:ext cx="3191040" cy="21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WTW 3-in-1 Combination pH Electrodes, Epoxy Body, WTW 50476466"/>
          <p:cNvPicPr/>
          <p:nvPr/>
        </p:nvPicPr>
        <p:blipFill>
          <a:blip r:embed="rId6"/>
          <a:stretch/>
        </p:blipFill>
        <p:spPr>
          <a:xfrm>
            <a:off x="7072200" y="1357200"/>
            <a:ext cx="37008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img.directindustry.com/images_di/photo-g/ph-electrode-56687.jpg"/>
          <p:cNvPicPr/>
          <p:nvPr/>
        </p:nvPicPr>
        <p:blipFill>
          <a:blip r:embed="rId7"/>
          <a:stretch/>
        </p:blipFill>
        <p:spPr>
          <a:xfrm>
            <a:off x="5072040" y="4071960"/>
            <a:ext cx="1244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Μαγνητικός αναδευτήρας / Θερμαντική πλάκ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velp.com/files_dyn/img_fotoProd/VELP_Heating_magnetic_stirrer_ARE.jpg_393_d.jpg"/>
          <p:cNvPicPr/>
          <p:nvPr/>
        </p:nvPicPr>
        <p:blipFill>
          <a:blip r:embed="rId5"/>
          <a:stretch/>
        </p:blipFill>
        <p:spPr>
          <a:xfrm>
            <a:off x="3929040" y="157176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76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Φασματοφωτόμετρο ορατού- υπεριώδους απλής δέσμη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http://img.alibaba.com/img/product/22/00/49/23/220049232.jpg?1263628800000"/>
          <p:cNvPicPr/>
          <p:nvPr/>
        </p:nvPicPr>
        <p:blipFill>
          <a:blip r:embed="rId5"/>
          <a:stretch/>
        </p:blipFill>
        <p:spPr>
          <a:xfrm>
            <a:off x="4000680" y="1857240"/>
            <a:ext cx="3809880" cy="2981520"/>
          </a:xfrm>
          <a:prstGeom prst="rect">
            <a:avLst/>
          </a:prstGeom>
          <a:ln w="0">
            <a:noFill/>
          </a:ln>
        </p:spPr>
      </p:pic>
      <p:sp>
        <p:nvSpPr>
          <p:cNvPr id="83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Φλογοφωτόμετρ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Jenway PFP7 Flame Photometer"/>
          <p:cNvPicPr/>
          <p:nvPr/>
        </p:nvPicPr>
        <p:blipFill>
          <a:blip r:embed="rId5"/>
          <a:stretch/>
        </p:blipFill>
        <p:spPr>
          <a:xfrm>
            <a:off x="4491000" y="1928880"/>
            <a:ext cx="2881440" cy="2529000"/>
          </a:xfrm>
          <a:prstGeom prst="rect">
            <a:avLst/>
          </a:prstGeom>
          <a:ln w="0">
            <a:noFill/>
          </a:ln>
        </p:spPr>
      </p:pic>
      <p:sp>
        <p:nvSpPr>
          <p:cNvPr id="90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85520" y="2571480"/>
            <a:ext cx="24289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Calibri"/>
              </a:rPr>
              <a:t>Φυγόκεντρο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1" descr="C:\Users\Christine Fountzoula\AppData\Local\Microsoft\Windows\Temporary Internet Files\Content.IE5\O6618MK4\MPj04394600000[1].jpg"/>
          <p:cNvPicPr/>
          <p:nvPr/>
        </p:nvPicPr>
        <p:blipFill>
          <a:blip r:embed="rId1"/>
          <a:stretch/>
        </p:blipFill>
        <p:spPr>
          <a:xfrm>
            <a:off x="6715080" y="5151600"/>
            <a:ext cx="2271600" cy="170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C:\Users\Christine Fountzoula\AppData\Local\Microsoft\Windows\Temporary Internet Files\Content.IE5\O6618MK4\MPj04019590000[1].jpg"/>
          <p:cNvPicPr/>
          <p:nvPr/>
        </p:nvPicPr>
        <p:blipFill>
          <a:blip r:embed="rId2"/>
          <a:stretch/>
        </p:blipFill>
        <p:spPr>
          <a:xfrm>
            <a:off x="0" y="5619600"/>
            <a:ext cx="1857240" cy="123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5" descr="C:\Users\Christine Fountzoula\AppData\Local\Microsoft\Windows\Temporary Internet Files\Content.IE5\1XIBMHDN\MPj04074910000[1].jpg"/>
          <p:cNvPicPr/>
          <p:nvPr/>
        </p:nvPicPr>
        <p:blipFill>
          <a:blip r:embed="rId3"/>
          <a:stretch/>
        </p:blipFill>
        <p:spPr>
          <a:xfrm>
            <a:off x="0" y="0"/>
            <a:ext cx="1373040" cy="13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C:\Users\Christine Fountzoula\AppData\Local\Microsoft\Windows\Temporary Internet Files\Content.IE5\1XIBMHDN\MPj04065760000[1].jpg"/>
          <p:cNvPicPr/>
          <p:nvPr/>
        </p:nvPicPr>
        <p:blipFill>
          <a:blip r:embed="rId4"/>
          <a:stretch/>
        </p:blipFill>
        <p:spPr>
          <a:xfrm>
            <a:off x="7429680" y="0"/>
            <a:ext cx="171432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>
            <a:off x="285840" y="1428840"/>
            <a:ext cx="3008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Εργαστήριο Χημείας</a:t>
            </a:r>
            <a:br>
              <a:rPr sz="2000"/>
            </a:br>
            <a:r>
              <a:rPr b="1" lang="el-G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Calibri"/>
              </a:rPr>
              <a:t>Όργαν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en.labexchange.com/products/foto/thumbs_preview/15583.jpg"/>
          <p:cNvPicPr/>
          <p:nvPr/>
        </p:nvPicPr>
        <p:blipFill>
          <a:blip r:embed="rId5"/>
          <a:stretch/>
        </p:blipFill>
        <p:spPr>
          <a:xfrm>
            <a:off x="3286080" y="2071800"/>
            <a:ext cx="322092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en.labexchange.com/products/foto/thumbs_preview/15583-1.jpg"/>
          <p:cNvPicPr/>
          <p:nvPr/>
        </p:nvPicPr>
        <p:blipFill>
          <a:blip r:embed="rId6"/>
          <a:stretch/>
        </p:blipFill>
        <p:spPr>
          <a:xfrm>
            <a:off x="6215040" y="2428920"/>
            <a:ext cx="19764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32:13Z</dcterms:created>
  <dc:creator>Christine Fountzoula</dc:creator>
  <dc:description/>
  <dc:language>en-US</dc:language>
  <cp:lastModifiedBy>Christine Fountzoula</cp:lastModifiedBy>
  <dcterms:modified xsi:type="dcterms:W3CDTF">2010-03-23T08:16:14Z</dcterms:modified>
  <cp:revision>51</cp:revision>
  <dc:subject/>
  <dc:title>Slide 1</dc:title>
</cp:coreProperties>
</file>